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FD3-52DE-435E-9D2A-2F949799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767-2296-4F19-A166-9AAFAB5F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5F4-4BD9-4CD3-AC24-B4465C03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DB0-9F06-41C8-BAD6-CEC6752B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F3D-3952-437F-A3E5-F1207FD0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EC4-DF27-4A00-BC3F-56D89536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A82-B13F-486C-9502-79B234D6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FEE-2915-4310-8595-237FA6FC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B06-7323-42AD-A54A-42D8457D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923-2797-4171-A352-E70719C9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CCE-7CDE-4487-894E-76015F35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656-8023-44B5-99CA-BA98C70B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A689-C6C0-4E7D-B17C-A51EF39BF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8:47:22Z</dcterms:created>
  <dc:creator>abeason</dc:creator>
  <dc:description/>
  <dc:language>en-US</dc:language>
  <cp:lastModifiedBy>abeason</cp:lastModifiedBy>
  <dcterms:modified xsi:type="dcterms:W3CDTF">2009-05-26T18:47:28Z</dcterms:modified>
  <cp:revision>1</cp:revision>
  <dc:subject/>
  <dc:title>Slide 1</dc:title>
</cp:coreProperties>
</file>